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017-0F6F-400F-9DCC-82A4132B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C48-4DE7-4C2B-8721-BAE9D3CD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4BD-4786-4B0B-9F2B-A4484D03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AB0-88D4-4135-A34A-0724B840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9EC-8A39-4111-8506-31B3F34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F54-02DA-497F-9E40-0F71EA24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EE5-0446-49CE-942A-D03E7B5D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5D4-75BE-4295-902E-5F8D9377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E71-84BC-4826-B8CE-8393573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314-015D-4632-B425-7DAAE18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10C-5523-4FF3-90AA-B51B2031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269-BC9A-4C65-9516-D61CE7D9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DA4E-43FD-4F6F-9E92-794EF9810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495680"/>
            <a:ext cx="9144000" cy="236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289548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942920" y="2705040"/>
            <a:ext cx="3810240" cy="1905120"/>
          </a:xfrm>
          <a:custGeom>
            <a:avLst/>
            <a:gdLst>
              <a:gd name="textAreaLeft" fmla="*/ 837720 w 3810240"/>
              <a:gd name="textAreaRight" fmla="*/ 2972520 w 3810240"/>
              <a:gd name="textAreaTop" fmla="*/ 418680 h 1905120"/>
              <a:gd name="textAreaBottom" fmla="*/ 1486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743200"/>
            <a:ext cx="16765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5219640" y="3162240"/>
            <a:ext cx="3429000" cy="914400"/>
          </a:xfrm>
          <a:custGeom>
            <a:avLst/>
            <a:gdLst>
              <a:gd name="textAreaLeft" fmla="*/ 753840 w 3429000"/>
              <a:gd name="textAreaRight" fmla="*/ 2675160 w 34290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1981080"/>
            <a:ext cx="175248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113796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496280" y="2362320"/>
            <a:ext cx="153036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1752480"/>
            <a:ext cx="2927520" cy="387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4382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5410080" y="3962520"/>
            <a:ext cx="2216160" cy="2438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352680" y="3886200"/>
            <a:ext cx="1905120" cy="156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4114800" y="3200400"/>
            <a:ext cx="803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15:40Z</dcterms:created>
  <dc:creator>user</dc:creator>
  <dc:description/>
  <dc:language>en-US</dc:language>
  <cp:lastModifiedBy>user</cp:lastModifiedBy>
  <dcterms:modified xsi:type="dcterms:W3CDTF">2010-06-29T18:13:00Z</dcterms:modified>
  <cp:revision>5</cp:revision>
  <dc:subject/>
  <dc:title>Slide 1</dc:title>
</cp:coreProperties>
</file>